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587-E6F5-40D5-8A6E-F5755795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62D-B9B4-4069-AD1F-9893BEC6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4C3-CCE1-4B14-8337-A22F041A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599-0680-4D18-A02F-A99D2178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0344-54DC-45B1-A1E4-467E848B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F46B-F04C-4A38-8DEE-7D489437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AABF-490B-4CE3-8294-9C81FE48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D9D1-83F8-4757-B825-F985BEF5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A420-09CF-456F-9523-FA1CC3F4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FA25-F066-4F0A-8888-C09C88F4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3F7A-36EA-4DFB-B1A0-89D1F01B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C8A-E102-4E26-83A8-786191FD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EB2B-9325-4B2F-A73A-104FF8B3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5E54-52CE-4A67-B65A-D7A186B1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C15D-CFC5-4911-A82D-4B2EF84A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ACC6-E303-4580-82E2-4963BEC3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3950-7F05-4C66-8478-967BE875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A47-D197-4C26-96A3-690F2EEE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04D-7DED-4CD3-ACB2-D513E9C0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171-5ED5-44AE-8EB8-A8974FCF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814-3D33-461C-952C-28D5B1B3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FA7-1ADF-44AA-9A7D-D93CD392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656F-0141-4FC5-A02F-90A8F4C7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E63-2C6C-4A1D-93EF-DA68968F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7EA6-6B90-447B-93B2-ABAB77C2C8D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0263-7EF3-4F3E-A726-6E32E3EE1B54}" type="slidenum">
              <a:rPr b="0" lang="es-E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IBUJO ELECTRÓNICO 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1J302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990720" y="491004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ocente: Ing. Percy Ronald Hermosa Altez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7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700360" y="1341360"/>
            <a:ext cx="3870360" cy="51847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quemas de Montaje o Conexiones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124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quemas de Montaje o Conexiones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6f89f7"/>
                </a:solidFill>
                <a:latin typeface="Tahoma"/>
              </a:rPr>
              <a:t>Para la conexión de determinados elementos se utilizan colores específicos para identificar los terminales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7" name="Object 7"/>
          <p:cNvGraphicFramePr/>
          <p:nvPr/>
        </p:nvGraphicFramePr>
        <p:xfrm>
          <a:off x="2936880" y="2421000"/>
          <a:ext cx="37958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2421000"/>
                    <a:ext cx="37958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9"/>
          <p:cNvGraphicFramePr/>
          <p:nvPr/>
        </p:nvGraphicFramePr>
        <p:xfrm>
          <a:off x="2987640" y="4905360"/>
          <a:ext cx="381636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4905360"/>
                    <a:ext cx="3816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11"/>
          <p:cNvSpPr/>
          <p:nvPr/>
        </p:nvSpPr>
        <p:spPr>
          <a:xfrm>
            <a:off x="611280" y="4005360"/>
            <a:ext cx="82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4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6f89f7"/>
                </a:solidFill>
                <a:latin typeface="Tahoma"/>
              </a:rPr>
              <a:t>Permite conocer las características eléctricas de los diferentes componentes del circuito.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6560" y="-1004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quemas de Montaje o Conexiones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9640" y="6381360"/>
            <a:ext cx="70927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40458c"/>
                </a:solidFill>
                <a:latin typeface="Tahoma"/>
              </a:rPr>
              <a:t>Diagrama de conexión de un circuito de arranque de automóvil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54" name="Object 9"/>
          <p:cNvGraphicFramePr/>
          <p:nvPr/>
        </p:nvGraphicFramePr>
        <p:xfrm>
          <a:off x="2050920" y="907920"/>
          <a:ext cx="5977080" cy="548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907920"/>
                    <a:ext cx="5977080" cy="54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-100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quemas de Montaje o Conexiones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7" name="Picture 7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 rot="21469200">
            <a:off x="1849320" y="836640"/>
            <a:ext cx="5297760" cy="576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QUEMAS Y DIAGRAM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2411280" y="3357720"/>
            <a:ext cx="58183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Un esquema es la representación gráfica del montaje y conexión de los diferentes elementos que conforman un circuito eléctrico o electrónico.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Muchas veces los esquemas no corresponden al montaje real del circuito, es así como se utilizan diversos tipos de diagramas, según la complejidad del circuito o lo que se desee representar.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quema Elemental o de Principio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370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25"/>
              </a:spcBef>
              <a:buSzPct val="212857"/>
              <a:buBlip>
                <a:blip r:embed="rId1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40458c"/>
                </a:solidFill>
                <a:latin typeface="Tahoma"/>
              </a:rPr>
              <a:t>Este esquema muestra los elementos de un circuito o aparato que son de interés para el estudio de su funcionamiento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SzPct val="212857"/>
              <a:buBlip>
                <a:blip r:embed="rId2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40458c"/>
                </a:solidFill>
                <a:latin typeface="Tahoma"/>
              </a:rPr>
              <a:t>Estos elementos se colocan o ubican en la forma más clara posible, no necesariamente muestran la posición real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SzPct val="212857"/>
              <a:buBlip>
                <a:blip r:embed="rId3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40458c"/>
                </a:solidFill>
                <a:latin typeface="Tahoma"/>
              </a:rPr>
              <a:t>Son de mucha utilidad para los profesionales ya que sirven de guías para el diseño de instalaciones y aparatos eléctricos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SzPct val="212857"/>
              <a:buBlip>
                <a:blip r:embed="rId4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40458c"/>
                </a:solidFill>
                <a:latin typeface="Tahoma"/>
              </a:rPr>
              <a:t>Además permiten analizar fácilmente el funcionamiento del circuito siguiendo  el recorrido de la corriente a través de los diferentes conductores y componentes del mismo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4859280" y="2205000"/>
          <a:ext cx="3960720" cy="253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2205000"/>
                    <a:ext cx="396072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1249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iagramas Esquemático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Un diagrama esquemático es el que se muestra por medio de “simbolos gráficos” las conecciones eléctricas y las funciones de las diferentes partes de un circuito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l diagrama esquemático es la forma normal de comunicar información en electricidad y electrónic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Los símbolos y las líneas relacionadas se emplean para mostrar cómo se conectan los elementos de un circuito y cómo se relacionan unos con otro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Usando el diagrama se puede seguir la operación del circuito de principio a fin, debido a esto los diagramas esquemáticos son ampliamente utilizados por ingenieros y técnicos en todo tipo de circuitos,  hasta su construcción y mantenimiento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Un diagrama esquemático no indica la posición física de los componentes ni de los alambres que se conectan a los component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iagramas Esquemático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623880" y="1549440"/>
            <a:ext cx="75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Tahoma"/>
              </a:rPr>
              <a:t>Diagrama esquemático de una radio de dos transistores.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623880" y="5013360"/>
            <a:ext cx="43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40458c"/>
                </a:solidFill>
                <a:latin typeface="Tahoma"/>
              </a:rPr>
              <a:t>Identificación de componentes: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148360" y="5354640"/>
            <a:ext cx="3671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L1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: Bobina de antena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Q1, Q2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: Transistores PNP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R1, R2, R3   : Resistores de carbón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S1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: Interruptor monopolar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unidireccional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684360" y="5354640"/>
            <a:ext cx="4379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BT1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: Batería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C1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: Capacitor variabl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C2, C3, C4   : Capacitores fijos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CR1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: Diodo de silicio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J1, J2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s-ES" sz="1600" spc="-1" strike="noStrike">
                <a:solidFill>
                  <a:srgbClr val="660066"/>
                </a:solidFill>
                <a:latin typeface="Tahoma"/>
              </a:rPr>
              <a:t>    : Receptáculos de punta aislada.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4" name="Object 12"/>
          <p:cNvGraphicFramePr/>
          <p:nvPr/>
        </p:nvGraphicFramePr>
        <p:xfrm>
          <a:off x="611280" y="1916280"/>
          <a:ext cx="8280360" cy="30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828036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iagramas Esquemático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68360" y="651672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40458c"/>
                </a:solidFill>
                <a:latin typeface="Tahoma"/>
              </a:rPr>
              <a:t>Diagrama esquemático de control H y V </a:t>
            </a:r>
            <a:endParaRPr b="1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8" name="Picture 9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251080" y="1125360"/>
            <a:ext cx="4697280" cy="547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quemas Desarrollado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83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SzPct val="172354"/>
              <a:buBlip>
                <a:blip r:embed="rId1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En estos esquemas los símbolos de los diferentes elementos que conforman el circuito se dibujan en forma que se aproximen lo más posible a la recta horizontal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524"/>
              </a:spcBef>
              <a:buSzPct val="172354"/>
              <a:buBlip>
                <a:blip r:embed="rId2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La alimentación del circuito se representa mediante dos líneas paralelas: (+) y (-) en circuitos de corriente continua, o Fase (F) y Neutro (N), en corriente alterna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2124000" y="3036960"/>
          <a:ext cx="5040360" cy="37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3036960"/>
                    <a:ext cx="504036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quemas Desarrollado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SzPct val="172354"/>
              <a:buBlip>
                <a:blip r:embed="rId1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Permiten analizar el funcionamiento del circuit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524"/>
              </a:spcBef>
              <a:buSzPct val="172354"/>
              <a:buBlip>
                <a:blip r:embed="rId2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Los componentes del circuito no indican su posición real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5" name="Object 5"/>
          <p:cNvGraphicFramePr/>
          <p:nvPr/>
        </p:nvGraphicFramePr>
        <p:xfrm>
          <a:off x="971640" y="3306600"/>
          <a:ext cx="3600360" cy="24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306600"/>
                    <a:ext cx="360036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7"/>
          <p:cNvGraphicFramePr/>
          <p:nvPr/>
        </p:nvGraphicFramePr>
        <p:xfrm>
          <a:off x="5383080" y="1700280"/>
          <a:ext cx="2573640" cy="460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83080" y="1700280"/>
                    <a:ext cx="2573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quemas de Montaje o Conexiones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SzPct val="172354"/>
              <a:buBlip>
                <a:blip r:embed="rId1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También es denominado </a:t>
            </a:r>
            <a:r>
              <a:rPr b="0" i="1" lang="es-ES" sz="2100" spc="-1" strike="noStrike">
                <a:solidFill>
                  <a:srgbClr val="660066"/>
                </a:solidFill>
                <a:latin typeface="Tahoma"/>
              </a:rPr>
              <a:t>Diagrama de Alambrado</a:t>
            </a: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. Muestra las conexiones de los alambres  de una manera pictórica o de manera gráfica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524"/>
              </a:spcBef>
              <a:buSzPct val="172354"/>
              <a:buBlip>
                <a:blip r:embed="rId2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Los componentes se identifican por medio de su nombre, y muestra la ubicación relativa de los diferentes elementos de un circuito en un espacio dad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524"/>
              </a:spcBef>
              <a:buSzPct val="172354"/>
              <a:buBlip>
                <a:blip r:embed="rId3"/>
              </a:buBlip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</a:rPr>
              <a:t>Otras características: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6f89f7"/>
                </a:solidFill>
                <a:latin typeface="Tahoma"/>
              </a:rPr>
              <a:t>Los terminales de los diferentes componentes se representan mediante letras y/o números para facilitar el montaje o reparación respectiva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1" name="Object 8"/>
          <p:cNvGraphicFramePr/>
          <p:nvPr/>
        </p:nvGraphicFramePr>
        <p:xfrm>
          <a:off x="3894120" y="4778280"/>
          <a:ext cx="2190600" cy="169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94120" y="4778280"/>
                    <a:ext cx="219060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3:46:40Z</dcterms:created>
  <dc:creator>HERMOSA ALTEZ</dc:creator>
  <dc:description/>
  <dc:language>en-US</dc:language>
  <cp:lastModifiedBy>user</cp:lastModifiedBy>
  <dcterms:modified xsi:type="dcterms:W3CDTF">2011-09-20T19:21:10Z</dcterms:modified>
  <cp:revision>162</cp:revision>
  <dc:subject/>
  <dc:title>DIBUJO ELECTRÓNICO I</dc:title>
</cp:coreProperties>
</file>